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3618-F0CC-4CC3-BF8A-C5B03F8E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100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1B0-08C5-47AB-BD25-1C15D063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47F4-81DC-4DED-851B-29F93958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7CEE-6816-477B-9B76-60F2684A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78DB-8396-47E2-B1B3-A6ED6246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87E0-0DB1-4F2C-85D9-42B371FC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DCB-39C6-42EE-BDD8-634D7012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C58E-D42B-46D0-88D6-274A59D4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4589-D7EA-44B0-9CB4-8E273099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A40F-A9BF-4D5C-8BD2-D16770C3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B5DE-B3B9-4C9D-9575-6BA78096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B9B8-050A-4206-9277-5BAFD0C3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EA12-70EA-4A42-A2BF-D2160F36B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2560" y="17604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3960" y="2286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3800" y="8398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B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5360" y="200484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9720" y="2211480"/>
            <a:ext cx="109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P Firm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0" y="1525680"/>
            <a:ext cx="14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nel Mode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5360" y="131904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1240" y="101448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131904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nel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6480" y="1852560"/>
            <a:ext cx="70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1960" y="17002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1960" y="208116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B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560" y="7858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2560" y="14716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2560" y="21574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1640" y="739800"/>
            <a:ext cx="1308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Message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66600" y="739800"/>
            <a:ext cx="149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Message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03760" y="1425600"/>
            <a:ext cx="1222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g.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0520" y="211140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c A/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0480" y="211140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law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12920" y="142560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MF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13716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20574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13716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0574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93640" y="739800"/>
            <a:ext cx="11667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ignal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7652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8000" y="289548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o from phon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2247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657600" y="1752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638680" y="1066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657600" y="106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8762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760" y="91440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30120" y="5335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23:18:40Z</dcterms:created>
  <dc:creator>John Kostogiannis</dc:creator>
  <dc:description/>
  <dc:language>en-US</dc:language>
  <cp:lastModifiedBy>John Kostogiannis</cp:lastModifiedBy>
  <dcterms:modified xsi:type="dcterms:W3CDTF">1999-09-12T11:03:12Z</dcterms:modified>
  <cp:revision>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