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69ABDFD-178F-43E2-92F3-FC72886F8B2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6BA72E9-053F-48C2-B1A8-CC4D63D9A13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BD833A5-9D86-44C0-9D40-175E64D0EB0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2A3D4A1-7CDA-450D-A447-DB1C4BAB41A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7C4129B-CBEA-45AD-901B-30F9CA6EA0F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04F4503-7D7E-4B8A-97F2-C4644A0E622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DF3316B-7A7B-466C-8EBB-717782CA17D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E7B9A8-67FC-4406-8461-347A54EDB6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083DB4-32E4-4347-9F53-4CCC739A62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EB45E8-0725-4FC1-8CE8-77477EAE0B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61BB74-DD3A-40EF-AC5C-41CA1BD23E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8D9AAC-5632-4661-BE1F-A4F769B61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7DE2A1-5686-40A8-91BF-8ECDB70D2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234F4-25B1-40A1-9CF8-F45B3BD82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6E0ACB-8CD7-4528-9F37-DBA1764B8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64A62B-3C76-4EC5-8296-623263F53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1FC8C4-87DA-4D6C-B639-347D452F5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309EA-FC9C-468F-A645-2839DDAFA0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4DA8DC-4E78-4CDB-A1B2-B6E7C89A6D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F5BF28-9BD5-4550-BE9B-A23E8CE04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A68A8-3972-4B83-9591-A94B838C87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6DABE-9E83-4184-80B9-C06E3319D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0D4101-A1E9-4548-BD9A-E2C42F8F33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6DB3F0-FB6E-48D2-8C2F-C589871E4C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15BBBC-205B-4703-BDF5-C539044205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268EEA-E516-41DA-BFFB-567E7CF6E2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F219E0-6661-4E3C-B735-C006BC1811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127174-8FD5-4E3B-BA6B-ADF323D749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618D44-7237-474A-BD40-20A6FB5CEB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CC8315-4562-4898-98B7-A209D8F005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04E9BD-0DC2-41A3-8E96-69A3F7FEB6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3068-62B6-404D-9D9F-06F17EEC4273}"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4A2A-50D3-4AA2-9376-F33F8BD12C15}"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25A36D94-90DA-45F9-AFC5-1BE6EC502272}" type="datetime3">
              <a:rPr b="0" lang="en-US" sz="2000" spc="-1" strike="noStrike">
                <a:solidFill>
                  <a:srgbClr val="ffffcc"/>
                </a:solidFill>
                <a:latin typeface="Tahoma"/>
              </a:rPr>
              <a:t>July 29,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