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A44-CC5D-4093-83E7-58BAD900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77F-9C58-4763-8C8E-B6EACBCC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AB7-4D61-4009-9CEA-BE13A15A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70B-AC11-400D-A50D-F09255E5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FA27-AD74-4207-A71D-3021D56D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A242-AF7E-4664-AF18-706CFF8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401A-8329-4731-A0C6-A3404AEA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7B84-AA5F-4E1A-8C1F-8FBFA667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496A-9E8A-437B-B3A9-54EE104E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881F-2826-47FA-8B37-9D3CAEDC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6308-D282-44FE-82CB-70434420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528-EEEA-4643-969A-13FA374A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941C-7A2A-40DE-8E3C-8C1DB42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0054-4DD1-45D6-8F9B-C9D1979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8D86-5B3F-4815-9291-22E720EB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FD73-ABD2-4B73-B8B5-910B60E4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22D5-A8E5-4D51-87EF-DF19F8B1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409-F7E8-47B0-BCFA-116BF185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CA4-D525-4CB6-8B78-8250916D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D52-FE91-4745-8E2D-9FB50380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591-EC3D-46A6-A7A0-83392ED0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C1E-89FB-4A50-A9F4-0CCD2EA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6AA-029B-4790-9E05-2F85E201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78F-B294-4A59-B299-8BA1061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E24D-8E6C-4D87-8730-A5DEB9AB388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D780-590C-43E3-8F9D-36973A37897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order.box.sk/subject.php?subject=SMS" TargetMode="External"/><Relationship Id="rId2" Type="http://schemas.openxmlformats.org/officeDocument/2006/relationships/hyperlink" Target="http://neworder.box.sk/user.php?name=The_MadMan" TargetMode="External"/><Relationship Id="rId3" Type="http://schemas.openxmlformats.org/officeDocument/2006/relationships/hyperlink" Target="http://neworder.box.sk/www.computerworld.com/storyba/0,4125,NAV47_STO69064,00.html%22" TargetMode="External"/><Relationship Id="rId4" Type="http://schemas.openxmlformats.org/officeDocument/2006/relationships/hyperlink" Target="http://neworder.box.sk/board.php?did=edge3512" TargetMode="External"/><Relationship Id="rId5" Type="http://schemas.openxmlformats.org/officeDocument/2006/relationships/hyperlink" Target="http://neworder.box.sk/board.php?did=edge3512&amp;newre=0" TargetMode="External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781680" y="1981080"/>
          <a:ext cx="19051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19051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 en entornos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Sancho Le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slerena@gnuse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54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</a:rPr>
              <a:t>"Software Libre" es cuestión de libertad, no de precio. "Free" en "free software" es una palabra que debe ser traducida como "libre" tal como en "libertad de expresión" ("Free speech"); no como "Gratis" como en "cerveza gratuita“ (“Free beer”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s-ES" sz="1200" spc="-1" strike="noStrike">
                <a:solidFill>
                  <a:srgbClr val="ffffff"/>
                </a:solidFill>
                <a:latin typeface="Arial Unicode MS"/>
              </a:rPr>
              <a:t>www.gnu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886200" cy="30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808520" y="3429000"/>
          <a:ext cx="433548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429000"/>
                    <a:ext cx="43354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U y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iferentes 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plicaciones fuera de entornos críti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lternativas de bajo cos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uncionalidades más flexi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vs Práctica en la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lta de conocimien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risas y falta de profesional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GUI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pacidad de Organización y de escalabil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s GNU Seguro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ódigo Abier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buen día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24080" y="2800440"/>
          <a:ext cx="60199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00440"/>
                    <a:ext cx="60199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308560"/>
            <a:ext cx="2743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9880" y="2419200"/>
          <a:ext cx="53341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419200"/>
                    <a:ext cx="53341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46440" y="1752480"/>
            <a:ext cx="31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kenwood.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2941560"/>
          <a:ext cx="60958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41560"/>
                    <a:ext cx="6095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954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ityba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53352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2282760"/>
          <a:ext cx="601992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2760"/>
                    <a:ext cx="601992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8120" y="16002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anon.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29160" y="2514600"/>
            <a:ext cx="551484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676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ecreditcard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72160" y="1638360"/>
            <a:ext cx="4371840" cy="5219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exodus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4080" y="1752480"/>
            <a:ext cx="457992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7640" y="220968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omnte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1. Introduc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2. Polític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3. Implement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rquitectura de redes seg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) Firewall. Net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speccion de es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ilt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de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du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HA con VRR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24560" y="1952640"/>
            <a:ext cx="4519440" cy="490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6200" y="2209680"/>
            <a:ext cx="21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fox.d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as noticias sobr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(neworder.box.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24080" y="2666880"/>
            <a:ext cx="5791320" cy="4037400"/>
            <a:chOff x="3124080" y="2666880"/>
            <a:chExt cx="5791320" cy="4037400"/>
          </a:xfrm>
        </p:grpSpPr>
        <p:sp>
          <p:nvSpPr>
            <p:cNvPr id="191" name=""/>
            <p:cNvSpPr/>
            <p:nvPr/>
          </p:nvSpPr>
          <p:spPr>
            <a:xfrm>
              <a:off x="3124080" y="2666880"/>
              <a:ext cx="1256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124080" y="2666880"/>
              <a:ext cx="5791320" cy="4037400"/>
              <a:chOff x="3124080" y="2666880"/>
              <a:chExt cx="5791320" cy="4037400"/>
            </a:xfrm>
          </p:grpSpPr>
          <p:sp>
            <p:nvSpPr>
              <p:cNvPr id="193" name=""/>
              <p:cNvSpPr/>
              <p:nvPr/>
            </p:nvSpPr>
            <p:spPr>
              <a:xfrm>
                <a:off x="3124080" y="2666880"/>
                <a:ext cx="5791320" cy="4037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124080" y="2666880"/>
                <a:ext cx="5791320" cy="4035240"/>
                <a:chOff x="3124080" y="2666880"/>
                <a:chExt cx="5791320" cy="4035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124080" y="2666880"/>
                  <a:ext cx="360" cy="3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3124080" y="2666880"/>
                  <a:ext cx="5791320" cy="4035240"/>
                  <a:chOff x="3124080" y="2666880"/>
                  <a:chExt cx="5791320" cy="403524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124080" y="2666880"/>
                    <a:ext cx="5791320" cy="930960"/>
                    <a:chOff x="3124080" y="2666880"/>
                    <a:chExt cx="5791320" cy="9309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 security pros learn to beat hackers at their own game</a:t>
                      </a:r>
                      <a:br>
                        <a:rPr sz="1400"/>
                      </a:br>
                      <a:r>
                        <a:rPr b="1" lang="en-US" sz="1000" spc="-1" strike="noStrike" u="sng">
                          <a:solidFill>
                            <a:srgbClr val="800000"/>
                          </a:solidFill>
                          <a:uFillTx/>
                          <a:latin typeface="Verdana"/>
                          <a:hlinkClick r:id="rId1"/>
                        </a:rPr>
                        <a:t>@ SM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 Mar 14 2002 - 01:26 EST</a:t>
                      </a: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24080" y="3598560"/>
                    <a:ext cx="5791320" cy="3103560"/>
                    <a:chOff x="3124080" y="3598560"/>
                    <a:chExt cx="5791320" cy="31035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2"/>
                        </a:rPr>
                        <a:t>The_MadM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rites: Corporate security and IT professionals got a chance last week to think like hackers so they could learn how to better prevent unauthorized users from gaining access to their networks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than a dozen computer specialists from across the country took part in an intensive five-day "boot camp" offered by New York-based Ernst &amp; Young LLP on the defense of enterprise networks. They paid </a:t>
                      </a: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,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iece for the training here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3"/>
                        </a:rPr>
                        <a:t>Read 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4"/>
                        </a:rPr>
                        <a:t>read com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0) | </a:t>
                      </a: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5"/>
                        </a:rPr>
                        <a:t>write comment</a:t>
                      </a:r>
                      <a:br>
                        <a:rPr sz="1400"/>
                      </a:b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0" y="4392720"/>
            <a:ext cx="2666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a seguridad no es..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5181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un firewall “tonto” (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Filtrado Simp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tampoco un  Firewall “listo” (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Filtrado de es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006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00400" y="1752480"/>
          <a:ext cx="45720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45720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 (continuación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 (continuac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) IDS. Sn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rquite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tegracion de 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) Secur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Gestion y monitoriz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pt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IV. Auditoria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V. Recurso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organiz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76200"/>
          <a:ext cx="602136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602136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038480" y="1295280"/>
          <a:ext cx="427212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295280"/>
                    <a:ext cx="42721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95480" y="49528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ncionamiento Algorit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ura real de 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23880"/>
          <a:ext cx="5867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867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267080"/>
          <a:ext cx="408132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67080"/>
                    <a:ext cx="40813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581280" y="35812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cripciones téc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ion 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26160" y="533520"/>
          <a:ext cx="431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33520"/>
                    <a:ext cx="431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38280"/>
          <a:ext cx="668808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6688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.. y prá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!/bin/bas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Checking conectivity with ICMP Ping, VRRPD Companion Scri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VER="11/03/2002 - v1.0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$2             # Tiempo de parada entre checks, en segundos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$2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5          # Si no se especifica, el check es cada 5 segund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Obtener el PID de los procesos de VRRPD en memo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LISTA_PROCESOS=`ps -A | grep "vrrpd" | tr -s " " | cut -d " " -f 2`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"$LISTA_PROCESOS"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No VRRP Daemon running, aborting.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xi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P_DESTINO=$1             # IP de comprobacion, pasada como 1# parametr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COMANDO="`ping -c 1 "$IP_DESTINO" | grep '100% packet loss'`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while [ "$RES" -eq 0 ];do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! -z "$COMANDO" ] ;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Ping fail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Shutting down VRRP daemons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kill -s 9 $LISTA_PROCES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1;el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Debug: Ping ok"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 $SLEEP_TIM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don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95280"/>
          <a:ext cx="38098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09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. 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roduccion a la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 Que es la Seguridad 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óg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e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Hosts/Aplic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porte y otros “problema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8Z</dcterms:modified>
  <cp:revision>39</cp:revision>
  <dc:subject/>
  <dc:title>Políticas de Seguridad en entornos GNU</dc:title>
</cp:coreProperties>
</file>