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074-C441-4BA3-9F4B-CFD5C334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59B-C0B5-406B-B86E-CCE1CE7A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83E-098C-4526-9B3D-9154FE15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516-38A3-488C-AFB9-A547096A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69E3-519B-49BD-9887-9BA4C69D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1E1C-FDA3-43C2-B231-A147D11F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03E1-DF21-4D52-AEFC-C023AE7B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C560-6AC5-487E-B3AE-F6DBD148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BE56-6798-4E5F-9C13-3C23AE63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1B2C-49A2-4E4C-B71F-E5A6AA43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54D5-0D20-4E57-93C2-8BCF232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259-F197-4E18-9F9F-DE9E1E6B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BBC3-ED85-44AB-AF60-7F2D8F16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C46E-A2A6-451F-8EDC-56D00C75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4C1B-712F-4F72-9F9F-8819AA0E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5B7E-9BFA-4700-B2AF-0F5B1ECA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F46E-83FA-4C0F-AEAE-96688F7E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9B5-3281-46EF-97BB-C1101A42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F4A-DE67-4960-BC65-4B9115E1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DBE-4F24-4071-824E-2014C0A1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940-D5BE-40F2-AD82-936486B3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F92-9674-4860-95A1-F6075B78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CE9-CC48-489D-8F56-70566D94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D3D-8685-4B2E-A180-9C1731C2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CA38-6C5C-45A5-B0DE-921BB229A7C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19EF-C425-4E06-9F6A-44700CDE426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V - Tema D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en GNU/Linu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294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 de auditoria.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004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pu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NMA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CG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GI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Whis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i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atapool (D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INT, Messala, RvScan, Sara, landguard  (A.V.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1962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con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roducción a una audi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SS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ne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ditoria de DoS y otras inci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blan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análisis y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: Calidad, confidencialidad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tras: Fisicas, social, basura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acking etic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étodo vs Conoci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, cut and p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Fo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mon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lugi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72120" y="1476360"/>
            <a:ext cx="397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canning/N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71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i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2625840"/>
            <a:ext cx="4643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 go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5435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6Z</dcterms:modified>
  <cp:revision>36</cp:revision>
  <dc:subject/>
  <dc:title>Políticas de Seguridad en entornos GNU</dc:title>
</cp:coreProperties>
</file>