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DE9-FAD1-40CA-9FE1-D025BF1F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67A-F1D9-4264-9671-D5171A08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32E-FFA2-4A4A-8805-9414644D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477-05B0-4953-9D0E-751804AB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CE41-1D45-4906-BAF6-FDA41CA7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47E7-20B8-4A63-B194-99C78E05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947B-15DD-4B21-8CDD-35ADA08F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D516-97F4-477F-A240-9A59E07E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32E4-EC01-49D8-A800-1B021F37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9619-4597-4C16-A1B8-24ACB6B4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DF32-59B5-4B6F-BAC9-9D34346A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2E5-16D1-4ED0-AFD7-CA3D1F97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81FF-C049-4542-A801-2BC9DAF9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42EE-21D1-404A-9F4E-0BA4162A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3450-C253-4346-8A22-E1C43012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C7DE-B65B-41D2-A235-54E49F4F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84F7-DB4D-4E6A-8615-BE6424BA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4FB-ACAD-47A2-9967-311496DB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7C6-669B-46A5-932C-E122627A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B03-B7DA-44A4-BCF3-92AFA97B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C10-CE5E-4C68-8826-310C463D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E9E-FE23-485B-B56C-EE15C85C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356-0A7B-482B-8147-3DFA6925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EC7-B89A-492F-9364-DAABAF6D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8CB7-5CB7-4AEE-99A2-A80E29C9A4F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0A3C-F209-4C24-AC01-BF219482F29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V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76720" y="3284640"/>
            <a:ext cx="5627520" cy="35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GNU vs Recursos 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tes en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17604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$ vs Recursos G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istas de corre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Sopor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ctualizaciones productos de segur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anuales “tecnico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on “avanzad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Knowledge 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gunas UR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cert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securiteam.com (bugtr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net-security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ideahamster.com (politic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eworder.box.sk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 (IETF), gener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S 7799 (UK Standard), teoric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pen Source Security Testing Methodology Manual (OSSTMM) (ideahamster.com), auditor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reaking into computer Networks from the Internet (sensepost.com), auditoria/hack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illos de hacking comercia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erramientas “click and go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oros públicos de “hackers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ser un hacker en 21 dia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os comerciales de productos concret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6640"/>
            <a:ext cx="367200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cc"/>
                </a:solidFill>
                <a:latin typeface="Arial Narrow"/>
              </a:rPr>
              <a:t>FiN</a:t>
            </a:r>
            <a:br>
              <a:rPr sz="9600"/>
            </a:br>
            <a:r>
              <a:rPr b="1" lang="es-ES" sz="1800" spc="-1" strike="noStrike">
                <a:solidFill>
                  <a:srgbClr val="ffffcc"/>
                </a:solidFill>
                <a:latin typeface="Arial Narrow"/>
              </a:rPr>
              <a:t>Version 1.0 Marzo/2002</a:t>
            </a:r>
            <a:endParaRPr b="1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1484280"/>
          <a:ext cx="4897440" cy="46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4897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4Z</dcterms:modified>
  <cp:revision>34</cp:revision>
  <dc:subject/>
  <dc:title>Políticas de Seguridad en entornos GNU</dc:title>
</cp:coreProperties>
</file>