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6D51-7CC8-4C10-BABD-6AFFA39F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1727-1BB1-47C0-A3B6-0E8655FE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67D-1020-4FD0-AD02-D90EF5B3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C5E3-12FC-47C4-B2A3-5BB44D99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2203-1398-4990-9A4A-B6E31FAC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5541-2A11-4AD8-B9A6-EA50AF3C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B5C4-5B34-4F79-B681-05FFE73A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C683-FBE4-4265-9173-C57BDA2D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0ACF-9115-4B24-B47A-02134F76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27AB-212E-4D58-BCFA-6A95CD24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D553-30B5-4ABC-848C-F0B5839B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D8F2-DD34-4F80-9AE8-812631FE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B1EE-54D2-44E8-9416-C2825F07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184A-DAD7-4748-92A2-10B1308A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68E3-17EC-4CB9-AAB6-B7BABA52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DF11-03BE-458C-B2D8-53BCFB99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AD3D-9200-40ED-9300-292FE542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430A-0EA5-4547-9C80-95679960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054C-DEFE-4D97-9652-74C402C5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A1DE-AA95-4DC6-8700-5BF83EF0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E31-074F-45C8-BEAB-AFB78584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783-1EF5-4862-AE8D-0C2EBA1C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084-0A92-480F-B6B8-44810840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8CD-3379-4694-A4C7-EC2E5B0A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8298-3A4D-46CD-AA8D-C427C65BC97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1EF3-B4CA-45E8-AEA2-D537B3978EF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837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I</a:t>
            </a: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olíticas de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Neces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cesidad de una Política de Seguridad en un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idencia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g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ponibi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81908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Justifica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ustif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ablece lo que se puede hacer y lo que no, de forma escrita y formal. Se puede leer y es algo escrito y acept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muestra que la empresa se lo quiere tomar en serio. Implica un compromiso con los direc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til frente a una auditoria, sobre todo si se siguen las normaliz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til para demostrar casos de intrusiones o delitos contra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5284800"/>
            <a:ext cx="32004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alisis. Normalización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ización y método.           ISO 17799, BS7799, RFC 21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tandard y certif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igurosidad y Mét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king ”etico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Normalización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ización y método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ker vs Administr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Teoría de la “presa”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243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276720" y="3176640"/>
          <a:ext cx="531468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76640"/>
                    <a:ext cx="53146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Ámbit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rsonas implicadas y responsabilidades en el proyec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quipo de segu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rección de la 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sonal té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sonal no té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385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Ambitos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8120" y="1998720"/>
          <a:ext cx="6095880" cy="45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998720"/>
                    <a:ext cx="609588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dministrador vs Hacker. Teoria de la pre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dentificar peligros. Checkl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idencia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g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poni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asificación en niveles de seguridad. Normaliz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Que proteg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formacion comprometida o confid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lanes de negocio, nominas, contratos, listados passwords, informacion de clien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formacion vali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ocumentacion, desarrollos de I+D, historicos y archiv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versiones e infraestruc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figuraciones, logs, backups, bbdd, webs, intranets, Acceso a servidores, electrónica y hardware costos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4284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4307040"/>
            <a:ext cx="2743200" cy="23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2971800" y="1846440"/>
          <a:ext cx="6172200" cy="501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846440"/>
                    <a:ext cx="617220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V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confidencia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s no autorizados a información confiden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s públicos a informacion confidencial, por error, mala configuracion o descu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uplantación de usu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a servicios confidenciales (correo, bbdd, servidores de acceso, etc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stalación de caballos de troy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material restring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geniería de seguridad. Mode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ement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ntenimiento e incid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fer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4648320"/>
            <a:ext cx="1371600" cy="134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)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integ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ificación indebida de datos (fallo de permis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ta de integridad (borrado o modificación) de da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osibilidad de idenficar fuente de da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lo en la integridad de bases de dato (corrupc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ificación en archivos de sistema (configuraciones, logs,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rucción o corrupción de backu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material restring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disponibi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ida de servicios externos. (D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gotamiento de recursos (ancho de banda, disco, socket, etc). (DoS o mala config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lo de infraestructuras generales de red (routing, switches, etc). (DoS, fallo, mala configuración o sabota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rucción de configuraciones o servicios. (DoS o Sabota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infraestructura básica. Sabot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sos historicos: Yahoo, Amazon, eBay, etc. Perdid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Tecnicas varias.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especificacion protoco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gramacion deficiente (buffer overflow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l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los servicios: Fuerza bruta, trojan, o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poofing vario (IP, DNS, etc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ssion hijack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genieria social y acceso fis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DoS y gus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umen de riesg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a informacion sen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oS y fallos de progra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l uso de recurs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ra un firewall suficient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xiste algo suficiente por si mismo para garantizar la seguridad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Introduc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mo llevar esto a la práctic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so de herrami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ISO 17799 y BS 779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RFC 219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range Book (DoD EEUU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ERT Security Guidel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tras guí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ganizando subpoli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mas importantes y comu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so de los recursos del sistema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cuentas de usuario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rotección de la información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legal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general de los sistemas informáticos en producción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backup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control de accesos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ccesos y permisos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física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280" y="3959280"/>
            <a:ext cx="30481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subpolí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ccesos 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educación en el ámbito de la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revencion y detección de v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lan de continuidad de nego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assw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perimetral de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subpolíticas (continuac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perimetral interna de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interven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incid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lta disponibilidad y redunda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guardias 24x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itica de gestion de recurso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monitoriz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encriptación y ocultación de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Clásico Ing. del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971800" y="2158920"/>
          <a:ext cx="533412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158920"/>
                    <a:ext cx="533412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I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124080" y="2971800"/>
          <a:ext cx="571500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971800"/>
                    <a:ext cx="571500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403812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C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697120" y="1981080"/>
          <a:ext cx="6446880" cy="19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1981080"/>
                    <a:ext cx="64468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Que es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es una Politica de Segu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La seguridad obtenida sólo con medios técnicos es limitada”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in técnica que la respalde, la seguridad es papel mojado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”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stemas informat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rganiz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¿ Que es ?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Politica de Seguridad no es un firew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Tecnicos: Man in the middle, spoofing, autenticación débil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no tecnicos: Señora de la limpieza, fallos humanos, mal diseño, poco control en la organización.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Kevin Midn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4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¿¡ QUE ES !?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Que es una política de seguridad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usiones varias al resp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 conjunto de documentos, con un orden y una sistematizació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cribe paso a paso los distintos elementos de una politica de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talla riesgos y pelig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o protegerse frente a esos riesgos, medidas a tomar y detalles de esas medid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medidas tomar frente a posibles incidenc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hacer en el peor de los ca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Que es (IV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Politica de Seguridad no se vende ni se comp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existen productos que hagan to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seguridad se vende con el mie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riesgo es real, las consecuencias divers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igura del Consultor / Tecnico de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23:11Z</dcterms:modified>
  <cp:revision>33</cp:revision>
  <dc:subject/>
  <dc:title>Políticas de Seguridad en entornos GNU</dc:title>
</cp:coreProperties>
</file>