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74D9940-029B-4FA1-8AEE-29BF9AA450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4280" y="13716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14280" y="0"/>
            <a:ext cx="9134640" cy="6848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000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38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4280" y="34290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174680" y="1066680"/>
            <a:ext cx="599760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Andrew Tridgell</a:t>
            </a:r>
            <a:br>
              <a:rPr sz="3600"/>
            </a:br>
            <a:r>
              <a:rPr b="0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amba-team@samba.anu.edu.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048520" y="324000"/>
            <a:ext cx="1127160" cy="262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14440" y="237960"/>
            <a:ext cx="80028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Unix CIFS Cli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diverse implemen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client is ftp-li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fs is 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lib is a portable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CIFS clients are not widely used beca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uthentication interface is awkw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servers lack full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links and permiss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cli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49280" y="1676520"/>
            <a:ext cx="7728120" cy="42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as a diagnostic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little sanity chec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command line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exten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change packets at the bit/byt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ed backups of PCs to Un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 gateway from Unix to P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in scripts for installation/monit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ing via WinPop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f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rue SMB filesystem for Linu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s with VFS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s supplied at mount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only a small subset of SMB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li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ortable SMB libr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ims to integrate into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eventualy replace smbcl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-transport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dmin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torture te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olicy versus Protoc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specifies a lot of policy i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al/illegal filen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’t delete read-only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: Building a better SM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is work to do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separate application API from file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functions need consolid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cation need to be very detai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authentication model nee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Beyond a file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Internet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model isn’t always id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s often have rotten network effici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often the applications fa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ata update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lgorithms are needed - rsync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Refere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 survey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/surv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cod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://samba.anu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The SMB Herit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s the DOS/Windows API on the w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gets extended in parallel with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mplicitly assumes many DOS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rich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PI 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ve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ch simpler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VFS layer is sm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95160" y="266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Is there demand for CIFS on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s! The Samba Survey shows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ggest users are corpo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st site has 15000 users on 1200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orate and business users make up over 50% of respon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al users contribute only 4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ten used beside non-unix servers (mostly 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tforms dominated by SunOS and Lin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common “wish list” is full NT domain security inte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riting a CIFS ser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implementor must decide 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ct emulation or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or user space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model - one client per proces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trategy is needed f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tribute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 map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Security Iss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IFS server must be parano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file operations done as non-ro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nity check all op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nd CIFS security models are very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 synchronisation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/share/server security - none fit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hat the spec doesn’t tell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the spec you may not realise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sing and IPC calls are essential, but currently undocumen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s used in very unusual 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 handling is unus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applications assu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/Windows directory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loop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s are case in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tarting from scrat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both a client and a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need a client you can modif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test unusual situ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probe existing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an extensible sniff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to the sniffer as you lea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assume existing sniffers are corr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ore proble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are lots more thorny issues to deal w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n unix is a m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 mode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ory/file permissions are totally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 format is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 privilaged ports must be obser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firew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name status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 to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CIFS viable for Unix to Unix connec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really, at least not y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need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 links, unix attributes, uids, g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device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uthent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drew Tridgell</dc:creator>
  <dc:description>DRAFT ONLY - V3</dc:description>
  <dc:language>en-US</dc:language>
  <cp:lastModifiedBy>Susan</cp:lastModifiedBy>
  <cp:revision>0</cp:revision>
  <dc:subject/>
  <dc:title>SMB on Unix</dc:title>
</cp:coreProperties>
</file>