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C8EE871-4624-4125-8FE4-FD6BC109E01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BCC8033-1D2D-4375-AEC7-0BBD5DEEE98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D016F31-2F8D-411D-9DCA-833CBFC1E66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0B55D20-249E-46BF-AEF1-BD6952D8998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2410F40-532D-44AF-A582-67C58074208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89F7C7A-62B6-4CEC-9E9B-91D76DD4C59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8994690-D5B1-44AC-A737-A8415542640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C6A377-0FDE-4A67-9187-E1254ED1E6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30337C-AF04-48E2-8B07-E3610BC062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00752F-F457-42CB-8578-C1BEA0A771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EDE844-CB9E-4463-86A6-7C8926F541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9997B7-54BD-4A17-9FC3-7216679264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63778D-AB9B-463D-A55A-E1FDDF5635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9780D0-7496-484A-A7A7-7A9C2B3FF5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0C3370-5FBE-402F-A084-8CAAA0B22F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1EC5B5-2561-48FB-B789-28CE3F4DA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3D10A7-00C4-4A17-BF1B-8266FAFF4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89258-A752-41E5-8380-5C87212A57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EE7452-7AEC-4298-A327-F2B109EA93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FCFB28-D760-4983-9715-A209C5567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A6775C-0816-41AA-8049-C04E0FAA7E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A74DF3-62F5-4066-82A2-6E99C59FA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59A0A4-0163-4CBD-A390-87D230262C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ECC6EA-F73F-4053-A440-41582A7A68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9D8995-FCEA-4F55-9519-57A8CA39AE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CA98B1-8305-4A56-9DAF-CFDA3D3B3E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3C3740-2C5F-4B55-9E68-5AE7F34790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93E22A-C411-4FDE-97EE-A4706DC3C7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F3EB3C-A005-4A8E-9835-38C60B2BD0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091928-004E-40A8-A178-932B139EFE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3E1555-4C2A-4E8D-A863-B21350EE48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D11F-B70E-4228-9384-ADEB3309C5BF}"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05F2-9379-431D-AC9F-B964CC205942}"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E7E970BF-3546-4102-88C0-4E488AD739EE}" type="datetime3">
              <a:rPr b="0" lang="en-US" sz="2000" spc="-1" strike="noStrike">
                <a:solidFill>
                  <a:srgbClr val="ffffcc"/>
                </a:solidFill>
                <a:latin typeface="Tahoma"/>
              </a:rPr>
              <a:t>July 29,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